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21FA2-8408-4DD4-A5CA-47617F7D8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ED32E-DED5-4769-B2DE-F4A23CD56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812F0-4FFD-4CB6-BFB5-8516B93E5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7A752-A08F-4CF3-9A6A-07246F210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9F0EC-D671-4E8D-B241-26BD37DC7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7B77C-8347-4C1D-8824-F34460A0A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B3FDA-F1B5-4B1A-B72F-95D9D2723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15DE3-7B7F-475B-B28C-59ED4E3D5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44B9A-6523-4144-9713-28E9A992D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F519B-166F-48A6-85AA-FECEF16ED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B978D-E15F-4967-8EF8-3B6473E8F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DCC09-75E8-44D3-B7E0-59CD36E38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3E5D8-EA3E-4BE7-AD96-2EB39E8E0004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6840" y="160020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SECTIONAL CRI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pter 1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plaining the Cri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533160" y="144756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uthern idea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ternalism, generosity, prosper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lavery defended on the grounds of race/religio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rthern idea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spired by evangelical Protestantis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ach person free and responsibl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lavery tyrannical and immor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ndamental conflict of ideals both culturally and intellectually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he Problem of Slavery in the Mexican Ces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xican War/Cession of 1848 puts status of slavery in new territory into ques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attle over the Wilmot Proviso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as to keep free blacks and slavery out of new territories gained form Mexic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hot down in Congress which foreshadows sectional conflict of 1850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absence of federal authority to regulate slavery limits Northern abolitionist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orging a Compromi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enry Clay’s 1850 compromise packa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alifornia admitted as a free stat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lave trade prohibited in District of Columb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rong fugitive slave law (outraged Northern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ew Mexico and Utah territory to be admitted on basis of popular sovereign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esident Taylor opposes but dies, VP Fillmore supports Clay’s compromi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4" descr="DIVI7233275"/>
          <p:cNvPicPr/>
          <p:nvPr/>
        </p:nvPicPr>
        <p:blipFill>
          <a:blip r:embed="rId2"/>
          <a:stretch/>
        </p:blipFill>
        <p:spPr>
          <a:xfrm>
            <a:off x="4419720" y="2133720"/>
            <a:ext cx="4464000" cy="297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Party System in Cri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ies need new issues after 185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mocrats succeed (Pierce and Buchanan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aim credit for the nation's prosperity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mise to defend the Compromise of 185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gs fail, become internally divided creating numerous other parties (Free-Soilers, Republican, Know Nothings, American, etc...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he Kansas-Nebraska Act Raises a Storm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1854: Douglas’s Kansas-Nebraska bil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pply popular sovereignty to Kansas, Nebrask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peal Missouri Compromise line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ct passes on sectional vot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as a catastrophe for sectional harmony (creates Republican Party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4" descr="DIVI7233281"/>
          <p:cNvPicPr/>
          <p:nvPr/>
        </p:nvPicPr>
        <p:blipFill>
          <a:blip r:embed="rId2"/>
          <a:stretch/>
        </p:blipFill>
        <p:spPr>
          <a:xfrm>
            <a:off x="4419720" y="1981080"/>
            <a:ext cx="4495680" cy="297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Kansas and the Ris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of the Republica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publican party unites former Whigs, Know-Nothings, Free-Soilers, Northern Democra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ppeals to Northern sectional sympath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fends white, small farmers from Slave Power expansion in the Wes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roughout the 1850’s the following led to the rise of Republican Party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Bleeding Kansas/Lecompton controversy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Dred Scott Decision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Uncle Tom’s Cabin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John Brown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Abraham Lincoln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4" descr="DIVI7233283"/>
          <p:cNvPicPr/>
          <p:nvPr/>
        </p:nvPicPr>
        <p:blipFill>
          <a:blip r:embed="rId2"/>
          <a:stretch/>
        </p:blipFill>
        <p:spPr>
          <a:xfrm>
            <a:off x="603360" y="1752480"/>
            <a:ext cx="3511440" cy="480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Election of 185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1066680" y="1752480"/>
            <a:ext cx="7543800" cy="2670840"/>
          </a:xfrm>
          <a:prstGeom prst="rect">
            <a:avLst/>
          </a:prstGeom>
          <a:solidFill>
            <a:srgbClr val="800080"/>
          </a:solidFill>
          <a:ln w="1260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Candidate</a:t>
            </a: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Party</a:t>
            </a: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Popular Vote</a:t>
            </a: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Electoral Vo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chana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mocrati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,832,955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7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émo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ublica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,339,93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lmor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merica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871,73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Know-Noth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4" descr="DIVI7233290"/>
          <p:cNvPicPr/>
          <p:nvPr/>
        </p:nvPicPr>
        <p:blipFill>
          <a:blip r:embed="rId2"/>
          <a:stretch/>
        </p:blipFill>
        <p:spPr>
          <a:xfrm>
            <a:off x="2057400" y="457200"/>
            <a:ext cx="503856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3T03:14:47Z</dcterms:created>
  <dc:creator>CMU</dc:creator>
  <dc:description/>
  <cp:keywords/>
  <dc:language>en-US</dc:language>
  <cp:lastModifiedBy>Thaddeus J. Brooks</cp:lastModifiedBy>
  <cp:lastPrinted>2012-04-13T17:13:31Z</cp:lastPrinted>
  <dcterms:modified xsi:type="dcterms:W3CDTF">2013-10-28T14:10:45Z</dcterms:modified>
  <cp:revision>24</cp:revision>
  <dc:subject/>
  <dc:title>THE SECTIONAL CRISIS</dc:title>
</cp:coreProperties>
</file>